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685-6783-42AB-B3FD-E4019C18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7AA-C6B2-43A0-93A7-5BD5C4E5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400-BB64-4A7D-9618-FA5373D7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9C4-F6E8-461F-BD00-54922FE5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932-2474-4D30-98C5-82096EF4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6F57-F052-415D-A391-9DEC3E66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F48-2EB5-4659-96DF-8394DCB7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1EA-AB95-4B1C-B521-745BC581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97E-B5FE-42D3-8390-9EB20714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5E0-6808-4C50-8CFF-5CA8E8B3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76C-B1C9-401E-BC26-E1266EE4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FED-052F-406B-AB7E-19618F46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4C76-3934-4FC9-8B14-43410DEA8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erc.carleton.edu/12585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Quality and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C, Carleton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= Utility in meeting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uses of data take place in wildly diverse circum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” data for one educator may be useless for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ngle metric can capture “good for educa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s Illu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textbook visualization, or data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goal is to help the learner understand the sc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rying to tell a convincing story; demonstrate that scientific understanding is underpinned by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clean and direct in a way that may be misleadingly atyp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Exploration by Stud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mic ‘real’ process: frame problem, find/model data, ask questions, probe and analyze, revise questions, bring in different data, analyse. Rep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ducation this is usually scaffolded: data selected/formatted/subsetted, questions framed, analysis outlined, tool use explicated.  Focus student energy on the bits that matter (which depends on goals) in time available matched to student abilities and knowl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Data Explo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students to address real-world complex problem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tudents’ ability to use scientific methods, including consideration of the values and ethics of working with da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each students how to critically evaluate the integrity and robustness of data or evidence and of their consequent interpretations or conclu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raining in scientific, technical, quantitative, and communication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9080" y="6291360"/>
            <a:ext cx="61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Data in the Classroom  http://serc.carleton.edu/34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Facilitates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ite allows curriculum developers to find and use appropriate data of interest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f knowledge for use is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is provided on relevance of data to problems of societal, educational or scientific signific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points to examples of educational use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re reliably available and archived for long term access as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e to, and organization of, the data is end-user frie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ve information (e.g. metadata) should be audience appropri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ite allows curriculum developers to ascertain the quality of data and determine the impact of data quality on the certainty of their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is provided about overall data collection, quality, reduction, and limitations. Data site includes sources of error and limitations of collection process as well as inaccuracies/ uncertainties from models/ particular choice of represen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bout accuracy of individual data sets/points/ analyses is provi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is provided in ways that facilitate manipulation through a variety of tools. This may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ing the data in common formats that are accessible via desktop tools (spreadsheets, GISs, image analysis progra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ing tools that are directly integrated into or downloadable from th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ing the data via protocols that make it accessible through 3rd party to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ools should be easily acquired, easy to use, and rel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ite supports, through these tools, data manipulation to answer question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ata contained within the site or combined with data from other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ppropriate visual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student's own data to that in the si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320" y="6138720"/>
            <a:ext cx="80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ccess Working Group Recommendations: http://serc.carleton.edu/63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heets: examples of education-facilitating contextual information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erc.carleton.edu/125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7621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xploration from the Using Data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76520"/>
            <a:ext cx="7543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and accessing data relevant to the topic they are investiga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ng the quality of this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ppropriate tools and interfaces to manipulate and render data to answer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ing multiple and diverse data sets to solve a central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 visualizations and representations that communicate interpretations and conclu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ng student data to larger data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ing individual student data in the context of larger data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7:38:53Z</dcterms:created>
  <dc:creator>Sean Fox</dc:creator>
  <dc:description/>
  <dc:language>en-US</dc:language>
  <cp:lastModifiedBy>Sean Fox</cp:lastModifiedBy>
  <dcterms:modified xsi:type="dcterms:W3CDTF">2011-07-13T14:36:20Z</dcterms:modified>
  <cp:revision>24</cp:revision>
  <dc:subject/>
  <dc:title>Data Quality and Education</dc:title>
</cp:coreProperties>
</file>